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AAC-B7B1-43FC-890B-59707025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236-3867-4955-8C25-8CCC2D91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EFA-E0EF-4695-B67E-E2C919E2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5E1-3675-4875-B75D-BF3B3F29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CB22-70D8-4621-8734-2414256F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F013-EA6D-4EC7-84E2-3F02313D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D603-8812-40F6-A8D4-64F7BC77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2CE1-2FF0-4872-ADC1-5BCA632F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12B1-AA40-448A-9E02-CABE5F3A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82CD-6DD8-4A88-9444-720713A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72A7-B628-41E1-96E9-D5623A55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114-17EE-40B4-AF6A-A252133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B8FC-E8B5-4521-9AFC-FE33C066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03EF-9B47-4347-806F-2E2BCD45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808E-EF83-4D27-B75A-0F5D4145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B63F-EF17-485F-8B7D-DB0AFFB9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E288-80AB-43E2-95EF-A3E4F959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D38-429D-4AA3-B7E9-40597198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130-D8BD-4B4E-854F-AC4DD0EA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870-2EEB-4371-96DD-B953365A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273-69B9-4DEA-9297-252088E6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091-D673-401B-8611-92BEAECA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607-081B-469C-BC2E-B05E5336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3E6-0905-48F8-BFF4-0C8143AA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A123-C283-45F7-AA56-C79A69CE6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6801-9451-4E56-B537-BA61B2AEC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eative Wri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reativ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343160"/>
            <a:ext cx="6095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34604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52600" y="1200240"/>
            <a:ext cx="6238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28800" y="1155600"/>
            <a:ext cx="56386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47920" y="1349280"/>
            <a:ext cx="5867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7400" y="977760"/>
            <a:ext cx="47242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7154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1420920"/>
            <a:ext cx="609588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52480" y="1569960"/>
            <a:ext cx="5715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90920" y="457200"/>
            <a:ext cx="42861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66680" y="1035000"/>
            <a:ext cx="69343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433520" y="1214280"/>
            <a:ext cx="62769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55623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38280" y="762120"/>
            <a:ext cx="3905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28920" y="480960"/>
            <a:ext cx="42861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1347840"/>
            <a:ext cx="63244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1300320"/>
            <a:ext cx="60958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3:38:30Z</dcterms:created>
  <dc:creator>Owner</dc:creator>
  <dc:description/>
  <dc:language>en-US</dc:language>
  <cp:lastModifiedBy>Owner</cp:lastModifiedBy>
  <dcterms:modified xsi:type="dcterms:W3CDTF">2012-09-05T14:15:45Z</dcterms:modified>
  <cp:revision>2</cp:revision>
  <dc:subject/>
  <dc:title>Creative Writing</dc:title>
</cp:coreProperties>
</file>